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1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0.jpeg" ContentType="image/jpeg"/>
  <Override PartName="/ppt/media/image13.jpeg" ContentType="image/jpeg"/>
  <Override PartName="/ppt/media/image3.wmf" ContentType="image/x-wmf"/>
  <Override PartName="/ppt/media/image1.png" ContentType="image/png"/>
  <Override PartName="/ppt/media/drumroll.wav" ContentType="audio/x-wav"/>
  <Override PartName="/ppt/media/image2.jpeg" ContentType="image/jpeg"/>
  <Override PartName="/ppt/media/image4.jpeg" ContentType="image/jpeg"/>
  <Override PartName="/ppt/media/applause.wav" ContentType="audio/x-wav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2707-F622-4E6F-8C0D-B75A30226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6087-F570-40CB-B963-07E5BA7B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5909-0B3C-425A-AEA1-BCDE9820E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15B3-7BCA-4C77-93B6-5DFF667E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6480-0850-46CA-9F03-7E8C9FD33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2606-52E7-4E7E-BE94-30FC462A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6B64-FBBA-4B7A-822B-1925F988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82DC-813D-42F0-B659-12DCAB40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8210-D1EF-4C67-866D-4B3FF103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5371-8F3E-4CFB-8502-7B39026C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976A-7BCC-4A52-8CE7-A09C66BB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02BF-1B6A-4FDB-9BE8-09D9CACA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FD5E-1266-4824-9742-A5475E74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946B-0DDF-4E04-A862-B7777A39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6D6C-86AF-4A32-BE48-E35D6811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667B-E2C0-4E58-A0F7-828DA0A22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4884-CE0A-4FF3-9004-4D1C8D4E1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D2D3-B2A1-418D-830C-0EBC0452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14B2-B559-4EF7-8DFE-8A83A21D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54F0-09CC-46EF-984A-9FF92F59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C1F1-A125-47CD-A435-9DA7CA61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8359-09C4-47CD-BFF5-F76E0169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5B01-7D3B-4BD6-812C-AF61886E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6CBD-CBDA-4D28-8E7E-6D208D8D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A7D9-75AF-415B-B8C4-8FCDCFC06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8F2C-CB45-4C69-8DC4-DC9F96CD0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742840"/>
            <a:ext cx="4419360" cy="1981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he Dinosaurs of Waterhouse Hawkins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1920" y="5638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Gr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t 3 Week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29" descr="THE DINOSAURS OF WATERHOUSE HAWKINS"/>
          <p:cNvPicPr/>
          <p:nvPr/>
        </p:nvPicPr>
        <p:blipFill>
          <a:blip r:embed="rId1"/>
          <a:stretch/>
        </p:blipFill>
        <p:spPr>
          <a:xfrm>
            <a:off x="4952880" y="152280"/>
            <a:ext cx="3905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076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cy is watching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roporti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healthy foods verses sweets that she ea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rrect installation among par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rrect relations between item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4419720"/>
            <a:ext cx="7467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ound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so important for building a sturdy structu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reful pla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pporting struc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2057400" y="4267080"/>
            <a:ext cx="46483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can find lots of tools in Dan’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orksho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om where items are ma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om where workers plan meeting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1371600" y="3809880"/>
            <a:ext cx="6095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076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amazing rollercoaster w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recte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ver the winter seas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esigne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il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362320" y="4495680"/>
            <a:ext cx="40384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used a cand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ol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make that pumpkin shap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llow for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retched canva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2514600" y="3657600"/>
            <a:ext cx="39625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l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idi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is apartment before his parents came over for a vis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nlarged and decorat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eaned and organiz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1676520" y="4343400"/>
            <a:ext cx="55623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the guests arrived on time for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occas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lanned meet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pecial ev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2819520" y="4495680"/>
            <a:ext cx="35812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360" y="3276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Comic Sans MS"/>
              </a:rPr>
              <a:t>You’ve got it!</a:t>
            </a:r>
            <a:endParaRPr b="0" lang="en-US" sz="10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4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Words to Know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57200" y="1295280"/>
            <a:ext cx="335268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rect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04920" y="2438280"/>
            <a:ext cx="38862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oundation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533520" y="3505320"/>
            <a:ext cx="3504960" cy="7617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mol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609480" y="4495680"/>
            <a:ext cx="335304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occasio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4495680" y="1905120"/>
            <a:ext cx="3886200" cy="1066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roportio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19"/>
          <p:cNvSpPr/>
          <p:nvPr/>
        </p:nvSpPr>
        <p:spPr>
          <a:xfrm>
            <a:off x="4952880" y="3429000"/>
            <a:ext cx="327672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idi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20"/>
          <p:cNvSpPr/>
          <p:nvPr/>
        </p:nvSpPr>
        <p:spPr>
          <a:xfrm>
            <a:off x="4876920" y="5029200"/>
            <a:ext cx="335268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orkshop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657240" y="1752480"/>
            <a:ext cx="5181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ace or building where work is do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962520" y="304920"/>
            <a:ext cx="3962160" cy="1295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orkshop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304920" y="304920"/>
            <a:ext cx="3200400" cy="53337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l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cca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or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di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sho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5" descr="MPj04395670000[1]"/>
          <p:cNvPicPr/>
          <p:nvPr/>
        </p:nvPicPr>
        <p:blipFill>
          <a:blip r:embed="rId1"/>
          <a:stretch/>
        </p:blipFill>
        <p:spPr>
          <a:xfrm>
            <a:off x="0" y="0"/>
            <a:ext cx="3968640" cy="5943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MCj02957510000[1]"/>
          <p:cNvPicPr/>
          <p:nvPr/>
        </p:nvPicPr>
        <p:blipFill>
          <a:blip r:embed="rId2"/>
          <a:stretch/>
        </p:blipFill>
        <p:spPr>
          <a:xfrm>
            <a:off x="5867280" y="4191120"/>
            <a:ext cx="209088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733920" y="1371600"/>
            <a:ext cx="4876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 hollow shape in which anything is formed, cast, or solidifi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4114800" y="152280"/>
            <a:ext cx="3429000" cy="10670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mol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ectangle 12"/>
          <p:cNvSpPr/>
          <p:nvPr/>
        </p:nvSpPr>
        <p:spPr>
          <a:xfrm>
            <a:off x="304920" y="304920"/>
            <a:ext cx="3200400" cy="53337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l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cca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or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di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sho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13" descr="MPj01784480000[1]"/>
          <p:cNvPicPr/>
          <p:nvPr/>
        </p:nvPicPr>
        <p:blipFill>
          <a:blip r:embed="rId1"/>
          <a:stretch/>
        </p:blipFill>
        <p:spPr>
          <a:xfrm>
            <a:off x="304920" y="228600"/>
            <a:ext cx="3004920" cy="4495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5" descr="31XknArozWL"/>
          <p:cNvPicPr/>
          <p:nvPr/>
        </p:nvPicPr>
        <p:blipFill>
          <a:blip r:embed="rId2"/>
          <a:stretch/>
        </p:blipFill>
        <p:spPr>
          <a:xfrm>
            <a:off x="5562720" y="3733920"/>
            <a:ext cx="2771640" cy="2771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7" descr="412uRwWjD6L"/>
          <p:cNvPicPr/>
          <p:nvPr/>
        </p:nvPicPr>
        <p:blipFill>
          <a:blip r:embed="rId3"/>
          <a:stretch/>
        </p:blipFill>
        <p:spPr>
          <a:xfrm>
            <a:off x="3886200" y="15238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267080" y="175212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 special event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4419720" y="533520"/>
            <a:ext cx="3352680" cy="1295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occasio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304920" y="304920"/>
            <a:ext cx="3200400" cy="53337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l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cca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or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di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sho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11" descr="j0216588"/>
          <p:cNvPicPr/>
          <p:nvPr/>
        </p:nvPicPr>
        <p:blipFill>
          <a:blip r:embed="rId1"/>
          <a:stretch/>
        </p:blipFill>
        <p:spPr>
          <a:xfrm>
            <a:off x="6781680" y="3886200"/>
            <a:ext cx="1609920" cy="1808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j0305493"/>
          <p:cNvPicPr/>
          <p:nvPr/>
        </p:nvPicPr>
        <p:blipFill>
          <a:blip r:embed="rId2"/>
          <a:stretch/>
        </p:blipFill>
        <p:spPr>
          <a:xfrm>
            <a:off x="4191120" y="4800600"/>
            <a:ext cx="1809720" cy="1486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" descr="MCPE02322_0000[1]"/>
          <p:cNvPicPr/>
          <p:nvPr/>
        </p:nvPicPr>
        <p:blipFill>
          <a:blip r:embed="rId3"/>
          <a:stretch/>
        </p:blipFill>
        <p:spPr>
          <a:xfrm>
            <a:off x="3733920" y="2666880"/>
            <a:ext cx="168732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276360" y="1905120"/>
            <a:ext cx="5257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ut up; built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3809880" y="380880"/>
            <a:ext cx="350532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rect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304920" y="304920"/>
            <a:ext cx="3200400" cy="53337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l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cca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or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di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sho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5" descr="MPj04389050000[1]"/>
          <p:cNvPicPr/>
          <p:nvPr/>
        </p:nvPicPr>
        <p:blipFill>
          <a:blip r:embed="rId1"/>
          <a:stretch/>
        </p:blipFill>
        <p:spPr>
          <a:xfrm>
            <a:off x="1600200" y="1905120"/>
            <a:ext cx="640080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505320" y="1828800"/>
            <a:ext cx="53337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per relation among p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3962520" y="457200"/>
            <a:ext cx="350496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roportio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04920" y="304920"/>
            <a:ext cx="3200400" cy="53337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l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cca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or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di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sho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6" descr="proportion.jpg"/>
          <p:cNvPicPr/>
          <p:nvPr/>
        </p:nvPicPr>
        <p:blipFill>
          <a:blip r:embed="rId1"/>
          <a:stretch/>
        </p:blipFill>
        <p:spPr>
          <a:xfrm>
            <a:off x="4648320" y="3809880"/>
            <a:ext cx="27032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733920" y="175212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ut in order; made neat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3962520" y="304920"/>
            <a:ext cx="3962160" cy="1066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idied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304920" y="304920"/>
            <a:ext cx="3200400" cy="53337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l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cca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or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di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sho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10" descr="MPj04373420000[1]"/>
          <p:cNvPicPr/>
          <p:nvPr/>
        </p:nvPicPr>
        <p:blipFill>
          <a:blip r:embed="rId1"/>
          <a:stretch/>
        </p:blipFill>
        <p:spPr>
          <a:xfrm>
            <a:off x="4572000" y="3943440"/>
            <a:ext cx="350532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581280" y="175212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arts on which the other parts rest for support; base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3962520" y="304920"/>
            <a:ext cx="3962160" cy="1295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oundatio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304920" y="304920"/>
            <a:ext cx="3200400" cy="53337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l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cca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or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di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sho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5" descr="MPPH03252I0000[1]"/>
          <p:cNvPicPr/>
          <p:nvPr/>
        </p:nvPicPr>
        <p:blipFill>
          <a:blip r:embed="rId1"/>
          <a:stretch/>
        </p:blipFill>
        <p:spPr>
          <a:xfrm>
            <a:off x="152280" y="228600"/>
            <a:ext cx="3625920" cy="63244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MCj00787470000[1]"/>
          <p:cNvPicPr/>
          <p:nvPr/>
        </p:nvPicPr>
        <p:blipFill>
          <a:blip r:embed="rId2"/>
          <a:stretch/>
        </p:blipFill>
        <p:spPr>
          <a:xfrm>
            <a:off x="5597640" y="1981080"/>
            <a:ext cx="114912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4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04:11:38Z</dcterms:created>
  <dc:creator>Jefferson County BoE</dc:creator>
  <dc:description/>
  <dc:language>en-US</dc:language>
  <cp:lastModifiedBy>HPS</cp:lastModifiedBy>
  <dcterms:modified xsi:type="dcterms:W3CDTF">2013-04-03T18:53:16Z</dcterms:modified>
  <cp:revision>75</cp:revision>
  <dc:subject/>
  <dc:title>Frindle Vocabulary Words</dc:title>
</cp:coreProperties>
</file>